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8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9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0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A088-E55A-4732-A883-6A11647ED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1523-8BAB-4FAA-84B3-2E1E91C4C63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C6C1-E410-4D26-BF21-6D1A9B6F0D7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CD06-4BB2-4925-90AE-2AA99E9C732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8EBC-49B5-4983-A1AE-DBF07F8854F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417C-B16A-4B50-A56A-22A2AD52073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F9AD-5CEF-4F54-B72A-1CF3B07A3C2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B872-6C5C-4FA2-88FF-DAAA9FD2161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CD3F-CEDF-408B-AB4F-CF090593F7D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F686-EC3D-4EA2-9444-E72C739EE39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D21F-997B-49C5-84B0-6F5489168AC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1BCD-D5D8-4E26-ACA3-89D96FA8247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C6A76-AB49-4358-91FF-F2DBC9B353D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5E22-3848-4F86-9BC1-6017CE4D7B0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3AE8-0B7B-47AD-AED6-42A1C2CAF94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F099-B172-4A33-9022-38E4BFF977D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742F-8FE0-4C53-9394-A2147C145F2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381E-5668-41CC-A7B5-059F8580E90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F84B-9EBD-411A-81C1-994B90A6C2D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2EA5-90F6-42EB-A674-6D93943C297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6FC3-DF14-4788-BB33-B4F254319D5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70CC-5C00-4FE6-A75F-B9258912AAE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59C2-18BA-411E-81CD-38236A06FE9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06A5-195E-4361-8BE2-3A765C9A9CC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4BFF-CBF6-41EC-B536-32FABB5DBD3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51D6-5021-4305-91EE-DAD8131D0BF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35B3-DB9B-4366-863D-4538C65C886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90D0-BE2D-424A-993E-EA39DC7BB0D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A626-1E8A-42E3-A085-0A7684527C2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FED2-E97F-4050-B074-1EB9DCAC41C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63D1-4985-4229-B4AF-373888A6E25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4852-006D-4A3B-938B-D768E9F5DDF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0C5F-0885-47B9-B909-9044E0E5B14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8F6D-1EA8-4F68-B2D7-EC519957AB1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19D6-A8F3-49BD-B8FD-820BEE861F1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1E11-F85E-4209-A4E8-AD30EE33D92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134B-340D-475E-9243-D7BCE235823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D377-16AF-49DE-B14E-5A0B6C6440C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5FCD-6093-4791-BFF4-08C467C98EE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4CDF-BAE6-4C6A-AD88-070DB730376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9555-D0D2-47F5-B7B6-F60F7B2B45B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FC87-4BD0-41EF-9411-54FF46EA451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FCC5-A6E7-4164-99B5-E7A9C3964C0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516C-7F4D-41F5-B85D-48B36E54478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FD68-1AAB-4CE1-BABA-90082456010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F026-1589-4FAC-A4C6-04EBF33E51A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26B3-92F3-4C4F-B6B9-0ECB9C4F45B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67AA-9B4B-4F93-8788-0027F7E5002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35EB-E04D-4121-81B8-13571342BD9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18D4-41BF-4432-8CA2-10800D5D1EE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42F2-52AA-48FC-89D4-1F15D13EF64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4153A-6F8A-4412-9C09-2A9242D6F8D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D80E-6669-4165-B9FD-1C5B4246B8B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55F0-71E9-4391-B882-6490279465B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EB30-C327-489D-86E8-FD3AFEE8A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5D70-0C03-4239-B497-F7BDAE86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B2A1-2391-439F-B264-0CF2847D4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BA0D-06BA-4192-B0E5-3D2649E2F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93A1-6EF4-4A41-969E-A6DD2B70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C937-30C5-4B76-810F-8CEF5239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3122-3FAE-4A6E-B85A-27874E88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95CC-CCFE-44CD-A7CB-4F7467D3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28D7-6133-4C63-BF38-68F816E0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8960-18E6-499C-9311-EFCC8A87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ABC1-09A1-48D1-A264-B8EA2904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856C-D1E2-4A36-85E4-8CAE1EFF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3 Novem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001C-5FFB-4449-B219-1196263749D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7162920" y="6419880"/>
            <a:ext cx="178272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1" descr=""/>
          <p:cNvPicPr/>
          <p:nvPr/>
        </p:nvPicPr>
        <p:blipFill>
          <a:blip r:embed="rId2"/>
          <a:stretch/>
        </p:blipFill>
        <p:spPr>
          <a:xfrm>
            <a:off x="7162920" y="6419880"/>
            <a:ext cx="1782720" cy="2667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3 Novem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2"/>
          <a:stretch/>
        </p:blipFill>
        <p:spPr>
          <a:xfrm>
            <a:off x="7162920" y="6419880"/>
            <a:ext cx="1782720" cy="2667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6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23 November 20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7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7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9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2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35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248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8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4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336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1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3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k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r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63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67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 Thursday 30th December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3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14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3 November 2017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20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17-07-03T09:08:21Z</dcterms:modified>
  <cp:revision>110</cp:revision>
  <dc:subject/>
  <dc:title>Aims and Objectives</dc:title>
</cp:coreProperties>
</file>